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B34-F599-43F7-A43D-FFFC2A13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913-1174-4F18-9A17-1A0C7D94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F3F-7E4F-4D68-B3C6-684E69EB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5F1-9D13-4BB9-94C3-BFACEF44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6E993-B86B-4249-B7E9-E84AF620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7D1D0-C10A-4821-9A8B-6AD925E8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E062D-98BB-4569-B8BE-ED62769A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F3DC4-1F80-4F12-AF44-5DE69EB2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0A769-A613-4022-B22E-83978488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90E4D-0B45-439F-BAAA-368E620D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CDB55-3501-486B-8045-08FC0EE0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3D1-9613-48FB-BC3E-55CFDE97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54534-03AF-4272-99E8-DD80FFEA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046C7-79E8-4AAA-99D6-B052096E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1513B-9DE4-4732-8649-B4E9B9FA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23883-5477-4EF3-92AE-D510D8A0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8E7D4-4E6D-4FB3-9D74-6D03685C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277-2C7E-4247-8C8D-9F60F4F7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BC5-6CDB-4E1D-BB67-9FED7F18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C50-1746-470D-9A84-BD1C4044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225-F849-4969-B352-916CDD20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232-82E2-4333-87BF-E9A7895B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189-5D46-4B88-AD00-131E44FD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AA5-D5FA-4FE5-A3A5-3C148807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766F-B2FD-4427-B701-5AAA1958330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79DB-FBF0-47F5-B42E-D4E40788E21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lobal Warm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earning objectiv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understand the greenhouse effect and why global warming occ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understand the impact that global warming could have upon the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llions battle South Asia floods, 12/7/0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 two million people had to flee their homes in India and Banglade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/3 Bangladesh affected,3 million people marooned, 1000s searching for shelter and several kill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www.bbc.co.u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385452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refor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Global warming is a MAJOR issue that will affect all of us over the next century!!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obal warming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the Earth’s temperature- over the next 100 years the temperature is predicted to rise by 2-3 degrees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hy could this happen?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GREENHOUSE EFF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Greenhouse Effec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arth is surrounded by GREENHOUSE 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let in heat from the sun but prevent much of it from escap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layer acts like a greenhouse!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392360" cy="2635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547640" y="4365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hat produces these greenhouse gas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ically: economic activity since the Industrial Revolution 200 years 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ning fossil fuels produces carbon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ssil fuels: oil, natural gas, c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eenhouse g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more greenhouse gases are produced, more of the sun’s energy is prevented from escaping and GLOBAL WARMING occ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greenhouse gas: Carbon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act of global warm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aciers me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e in sea level because of glaciers mel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floo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extreme wea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desert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in vege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plants and animals extinct in certain ar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s of global warming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reat of glaciers and valleys; veg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700280"/>
          <a:ext cx="8351640" cy="503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00280"/>
                    <a:ext cx="835164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 warming and effect upon landsc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1434960"/>
          <a:ext cx="8209080" cy="542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434960"/>
                    <a:ext cx="82090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kes and glacial valle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26920" y="1733400"/>
          <a:ext cx="7921800" cy="486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733400"/>
                    <a:ext cx="7921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5:27:45Z</dcterms:created>
  <dc:creator>ISS</dc:creator>
  <dc:description/>
  <dc:language>en-US</dc:language>
  <cp:lastModifiedBy>geo6pk</cp:lastModifiedBy>
  <dcterms:modified xsi:type="dcterms:W3CDTF">2005-04-22T09:56:36Z</dcterms:modified>
  <cp:revision>9</cp:revision>
  <dc:subject/>
  <dc:title>The effect of global warming upon the ice caps</dc:title>
</cp:coreProperties>
</file>